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6.png" ContentType="image/png"/>
  <Override PartName="/ppt/media/laser.wav" ContentType="audio/x-wav"/>
  <Override PartName="/ppt/media/image4.jpeg" ContentType="image/jpeg"/>
  <Override PartName="/ppt/media/image2.png" ContentType="image/png"/>
  <Override PartName="/ppt/media/image3.wmf" ContentType="image/x-wmf"/>
  <Override PartName="/ppt/media/image8.png" ContentType="image/png"/>
  <Override PartName="/ppt/media/chimes.wav" ContentType="audio/x-wav"/>
  <Override PartName="/ppt/media/image16.png" ContentType="image/png"/>
  <Override PartName="/ppt/media/breeze.wav" ContentType="audio/x-wav"/>
  <Override PartName="/ppt/media/applause.wav" ContentType="audio/x-wav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5.png" ContentType="image/png"/>
  <Override PartName="/ppt/media/image15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8E3A-BCC6-44D5-A34A-56A919B8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278A-254A-4B1C-9D57-B7BD03379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E43D-0EB3-4380-9740-5CCF2C4417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488-F61C-40CD-8294-8B4034CD60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D8F-D998-4B2D-B222-E4DD60698E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8569-02D3-4648-9EA9-F95F8D802C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F041-ADE5-40AA-933C-C68A97EE0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A9F-F783-4BF3-BE3C-E027DCCB9F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BA01-F50B-4E89-8A51-961998DEE8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FDD-2190-468D-8561-B51364AD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BCD-430B-4C42-A92E-EBBE596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920-2A63-4ADB-BEF5-98AA5F07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B66-3F7C-4012-8499-F4823ED4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98BE-10C1-43C7-BA42-15E27C00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C65BF-0DD4-4658-B0BD-0ED64A9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8C42B-EDBA-48C3-A527-2656503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AE0C9-B5E3-4455-A0E7-DA6566D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1EE0-30CF-4685-A3B9-34D5F11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EEF65-C5DF-4D8A-9D7E-C44A93F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FCC9-7F28-4AD5-83F7-61CF66F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02E-BCAF-4CAC-AD1C-E2660BB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15314-3C86-4DF0-8D1F-49E5FD1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013C-8931-48D4-958E-CD0EE7F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766E2-0EFF-4351-BC37-8BE36D0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C1371-6F54-4FCF-815E-9F2638D8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31A6-A558-42A0-BC7D-5F864CD6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3B107-2BAE-4C3D-BCC7-48E46760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686EA-2A17-4420-9A27-43A5958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D621-1E8E-42EA-88FF-494159F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800FF-50E6-4D93-9A7E-0BF7B42B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B2503-61B3-430A-AF14-24773674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036-C7FC-4089-AE85-B25A6069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B67BA-CC05-47EA-A91C-7E00DE7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804A5-756E-4F22-B983-B19B858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FCB07-1F45-4789-B7F5-761DD64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EA34C-1EB9-485B-B947-AC6A267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61597-B094-479F-9128-4408B0C7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6515D-D4D0-43FE-BE98-4D774F14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86DBC-564C-4D6B-BBE7-DA9FAD9F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BDD-8603-4335-87E6-B64AC3B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381-D4C0-4D91-B3AA-FD49C32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97E-CF63-4E0A-AB7C-09DF519E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03B-41F2-465F-A8F9-38E42BE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6B1-169B-4EA3-852D-6D44588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853-AE0B-4CAF-8978-45999432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BC46-64EA-435B-8E72-6EEE4F05C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194-0137-414B-987A-F99CC4E7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A003-4E6A-493C-B82F-B661ACF841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dia.oceaninspire.com/2010/06/russian_icebreaker_in_antarctica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6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Edwardian Script ITC"/>
              </a:rPr>
              <a:t>Russian econom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Mar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mand 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ussia used to have a Command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ll the farmland and factory were controlled by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n 1985 Mikhail Gorbachev became the leader of the sovi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e let farmers and factory managers to make their own dec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384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50000">
              <a:srgbClr val="33cc33"/>
            </a:gs>
            <a:gs pos="100000">
              <a:srgbClr val="185e1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</a:rPr>
              <a:t>Moscow reg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oscow is the largest city in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farming takes place in Moscow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rmers raise dairy cattle and grains such as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rops include flax. It is used to make tex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bad thing is that Russia has a short growing season because its so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MC900055101[1]"/>
          <p:cNvPicPr/>
          <p:nvPr/>
        </p:nvPicPr>
        <p:blipFill>
          <a:blip r:embed="rId1"/>
          <a:stretch/>
        </p:blipFill>
        <p:spPr>
          <a:xfrm>
            <a:off x="5181480" y="2514600"/>
            <a:ext cx="320040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942E-006 C -0.00105 0.03307 -0.00157 0.06638 -0.00296 0.09945 C -0.00348 0.11194 -0.00469 0.12627 -0.01129 0.13506 C -0.01355 0.14408 -0.01823 0.15218 -0.02396 0.15773 C -0.02448 0.16073 -0.02396 0.16443 -0.02535 0.16698 C -0.02622 0.1686 -0.02865 0.16744 -0.02969 0.16883 C -0.03073 0.17022 -0.03021 0.17299 -0.03108 0.17461 C -0.03403 0.18062 -0.03507 0.18016 -0.03959 0.18201 C -0.04098 0.18525 -0.04184 0.18895 -0.04375 0.19149 C -0.0448 0.19288 -0.04671 0.19219 -0.04792 0.19334 C -0.05678 0.20282 -0.04428 0.19612 -0.05504 0.20074 C -0.06025 0.20814 -0.07032 0.21647 -0.07761 0.21948 C -0.08316 0.22734 -0.10226 0.23058 -0.1099 0.23081 C -0.16337 0.23243 -0.21702 0.23196 -0.27049 0.23266 C -0.35921 0.2315 -0.44792 0.23058 -0.53664 0.22896 C -0.54844 0.22873 -0.58369 0.22734 -0.57188 0.22711 C -0.48369 0.22572 -0.39532 0.22595 -0.30712 0.22526 C -0.26632 0.22387 -0.22535 0.22294 -0.18455 0.22133 C -0.16025 0.2204 -0.13559 0.21046 -0.11129 0.20652 C -0.09948 0.20051 -0.09237 0.19797 -0.079 0.19519 C -0.05521 0.18386 -0.06615 0.18664 -0.04653 0.18386 C -0.03681 0.17947 -0.03525 0.16883 -0.02691 0.16513 C -0.0224 0.1531 -0.02136 0.14709 -0.01841 0.13506 C -0.01598 0.09459 -0.01737 0.05296 -0.01268 0.01318 C -0.01216 0.00324 -0.0132 -0.04949 -0.00296 -0.06383 C -0.0007 -0.07632 -0.00122 -0.08904 0.00138 -0.10129 C 0.00277 -0.10823 0.0026 -0.11586 0.00555 -0.12188 C 0.00885 -0.12858 0.00833 -0.12534 0.00833 -0.13136 E">
                                      <p:cBhvr>
                                        <p:cTn id="8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ssia has two important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Kaliningr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Kaliningrad is the only port in the Baltic Sea that remains free of ic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t. Petersburg use to be the capital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t was built in the early 17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rge palace still ar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ost ports are not ice free so they use a ship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cebr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 huge ship to crush the ice in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5228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breeze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14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The Volga and Urals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he Ural Mountains are rich in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uch as Bauxite use to mak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a3e0"/>
                </a:solidFill>
                <a:latin typeface="Arial"/>
              </a:rPr>
              <a:t>They also have other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nd 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The energy sourc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The Volga River carries half of Russia river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s use for Hydroelectr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15612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laser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2 C 0.04 -0.09991 0.045 -0.15186 0.031 -0.15985 C 0.017 -0.16918 -0.01 -0.13188 -0.029 -0.07859 C -0.039 -0.05062 -0.045 -0.02398 -0.047 -0.004 C -0.05 0.01199 -0.051 0.02797 -0.051 0.04662 C -0.051 0.10657 -0.038 0.15586 -0.023 0.15586 C -0.008 0.15586 0.005 0.10657 0.005 0.04662 C 0.005 0.01865 0.002 -0.00799 -0.003 -0.02664 C -0.005 -0.04263 -0.01 -0.05994 -0.016 -0.07726 C -0.036 -0.13188 -0.063 -0.16918 -0.077 -0.15985 C -0.091 -0.15053 -0.086 -0.09991 -0.066 -0.04529 C -0.058 -0.01998 -0.047 0.00133 -0.036 0.01599 C -0.028 0.02931 -0.019 0.0413 -0.007 0.05328 C 0.029 0.09191 0.065 0.10923 0.075 0.09325 C 0.084 0.07726 0.064 0.0333 0.028 -0.004 C 0.013 -0.01998 -0.003 -0.03197 -0.016 -0.03996 C -0.028 -0.04796 -0.043 -0.05462 -0.059 -0.05861 C -0.103 -0.07193 -0.141 -0.06794 -0.144 -0.04662 C -0.148 -0.02664 -0.115 0 -0.071 0.01332 C -0.051 0.01865 -0.032 0.02131 -0.017 0.01998 C -0.004 0.01998 0.01 0.01732 0.025 0.01332 C 0.069 0 0.102 -0.02797 0.098 -0.04796 C 0.095 -0.06794 0.057 -0.07327 0.013 -0.05994 C -0.008 -0.05328 -0.027 -0.04396 -0.04 -0.0333 C -0.051 -0.02531 -0.062 -0.01599 -0.074 -0.004 C -0.109 0.03463 -0.13 0.07726 -0.12 0.09325 C -0.111 0.10923 -0.074 0.09191 -0.039 0.05462 C -0.022 0.03597 -0.008 0.01732 0 0 Z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Arial"/>
              </a:rPr>
              <a:t>Sibe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ac6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6cd"/>
                </a:solidFill>
                <a:latin typeface="Arial"/>
              </a:rPr>
              <a:t>The Siberia is one of the most important region i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Its has the largest supply of minerals i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ron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nd also a lot of oil and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ound 2/3 of the Siberia is cover i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t helps the Timb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bad thing about this is to get the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t takes up to 8 or more days to travel around Russia in a 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276640" cy="2009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Pict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443040" cy="2500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4057560" cy="2690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594360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tretch/>
        </p:blipFill>
        <p:spPr>
          <a:xfrm>
            <a:off x="457200" y="44197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5715000" y="228600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7"/>
          <a:stretch/>
        </p:blipFill>
        <p:spPr>
          <a:xfrm>
            <a:off x="2438280" y="4181400"/>
            <a:ext cx="3976920" cy="2676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0" y="2286000"/>
            <a:ext cx="3981600" cy="263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3505320" y="9144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10"/>
          <a:stretch/>
        </p:blipFill>
        <p:spPr>
          <a:xfrm>
            <a:off x="7296120" y="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11"/>
          <a:stretch/>
        </p:blipFill>
        <p:spPr>
          <a:xfrm>
            <a:off x="0" y="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12"/>
          <a:stretch/>
        </p:blipFill>
        <p:spPr>
          <a:xfrm>
            <a:off x="6288120" y="4829040"/>
            <a:ext cx="285588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13"/>
          <a:stretch/>
        </p:blipFill>
        <p:spPr>
          <a:xfrm>
            <a:off x="0" y="4800600"/>
            <a:ext cx="270504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"/>
          <p:cNvPicPr/>
          <p:nvPr/>
        </p:nvPicPr>
        <p:blipFill>
          <a:blip r:embed="rId14"/>
          <a:stretch/>
        </p:blipFill>
        <p:spPr>
          <a:xfrm>
            <a:off x="5562720" y="0"/>
            <a:ext cx="1752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aren and Marcus for making this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r. Griffith for help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r. Obrien for letting us use the computer lab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                      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5837E-006 C -0.00625 0.00601 -0.00521 0.00902 -0.01285 0.01156 C -0.01927 0.02012 -0.02639 0.02289 -0.03403 0.02845 C -0.03594 0.02983 -0.03785 0.03168 -0.03958 0.034 C -0.04132 0.03631 -0.04184 0.03978 -0.04375 0.04163 C -0.04618 0.04371 -0.0493 0.04417 -0.05208 0.04533 C -0.05798 0.05273 -0.06111 0.05643 -0.0691 0.05828 C -0.07969 0.06799 -0.09271 0.06152 -0.10417 0.05666 C -0.11354 0.04718 -0.12118 0.03585 -0.12951 0.02474 C -0.13333 0.01966 -0.13472 0.01179 -0.13819 0.00601 C -0.1408 0.00092 -0.14514 -0.00231 -0.14792 -0.00717 C -0.15139 -0.01249 -0.15364 -0.0185 -0.15642 -0.02405 C -0.16042 -0.04047 -0.16632 -0.05458 -0.17048 -0.071 C -0.17135 -0.08279 -0.17344 -0.09459 -0.17326 -0.10662 C -0.17326 -0.11217 -0.18489 -0.24283 -0.1592 -0.28492 C -0.15608 -0.29001 -0.15139 -0.29302 -0.14792 -0.2981 C -0.14271 -0.3062 -0.13559 -0.32933 -0.12413 -0.33187 C -0.11285 -0.33418 -0.10139 -0.33303 -0.0901 -0.33372 C -0.00625000000000001 -0.33141 0.05712 -0.33071 0.13524 -0.31106 C 0.14063 -0.30759 0.14636 -0.30319 0.15208 -0.29995 C 0.15816 -0.29649 0.16441 -0.29417 0.17049 -0.29047 C 0.19167 -0.27775 0.17257 -0.28631 0.18455 -0.28122 C 0.18629 -0.27382 0.18715 -0.27058 0.19288 -0.26804 C 0.2 -0.27706 0.19722 -0.27128 0.19288 -0.29602 C 0.19045 -0.3099 0.18715 -0.32516 0.1816 -0.33765 C 0.18108 -0.34251 0.18212 -0.34806 0.18021 -0.35245 C 0.17761 -0.35823 0.1724 -0.36078 0.16875 -0.36563 C 0.16302 -0.37396 0.15781 -0.38321 0.15208 -0.39177 C 0.14792 -0.39778 0.14514 -0.40518 0.14063 -0.4105 C 0.13247 -0.42068 0.12031 -0.42415 0.1099 -0.42923 C 0.08559 -0.44103 0.06337 -0.4445 0.03802 -0.44612 C 0.00695 -0.44542 -0.02413 -0.4475 -0.05521 -0.44427 C -0.05903 -0.4438 -0.06146 -0.43756 -0.06476 -0.43501 C -0.08003 -0.42322 -0.09566 -0.41166 -0.11128 -0.40125 C -0.14045 -0.36193 -0.1684 -0.32007 -0.19305 -0.27544 C -0.20729 -0.25 -0.2191 -0.22155 -0.23403 -0.19658 C -0.2776 -0.12373 -0.31076 -0.03562 -0.32812 0.05481 C -0.32864 0.06267 -0.33368 0.1117 -0.32951 0.12604 C -0.32118 0.15472 -0.31094 0.16027 -0.29601 0.18039 C -0.28142 0.19958 -0.27569 0.21022 -0.25642 0.21993 C -0.23785 0.21762 -0.21441 0.21577 -0.19583 0.21022 C -0.17847 0.2056 -0.16285 0.20097 -0.14531 0.19912 C -0.13646 0.19149 -0.1283 0.18779 -0.1184 0.18409 C -0.10972 0.16397 -0.11198 0.17622 -0.10139 0.16351 C -0.09792 0.15934 -0.09427 0.15518 -0.09149 0.15009 C -0.08976 0.14685 -0.08958 0.14223 -0.08733 0.13922 C -0.07951 0.12789 -0.07048 0.11795 -0.06215 0.10731 C -0.03611 0.0747 -0.01215 0.04001 0.01406 0.00786 C 0.02535 -0.00601 0.03368 -0.02359 0.04497 -0.03723 C 0.05573 -0.05019 0.06945 -0.05828 0.08021 -0.071 C 0.10781 -0.10407 0.07396 -0.07077 0.09983 -0.09528 C 0.10955 -0.11355 0.10417 -0.10476 0.11684 -0.12165 C 0.1224 -0.12905 0.12396 -0.14107 0.12813 -0.14986 C 0.12969 -0.15865 0.13073 -0.16605 0.13368 -0.17415 C 0.1342 -0.17923 0.13333 -0.18455 0.13524 -0.18941 C 0.13611 -0.19172 0.13646 -0.18432 0.13663 -0.18178 C 0.13733 -0.17415 0.1375 -0.16674 0.13802 -0.15911 C 0.13715 -0.1228 0.13698 -0.08673 0.13524 -0.05042 C 0.13386 -0.0266 0.11493 -0.00116 0.10538 0.01711 C 0.09653 0.03469 0.08767 0.05296 0.07031 0.05666 C 0.0066 0.08996 -0.06667 0.05874 -0.13524 0.05666 C -0.14601 0.05481 -0.15712 0.05481 -0.16771 0.05088 C -0.17708 0.04741 -0.18351 0.02845 -0.18889 0.01919 C -0.20625 -0.05134 -0.19514 -0.00208 -0.18594 -0.18178 C -0.18559 -0.1871 -0.17639 -0.2315 -0.17465 -0.23797 C -0.15989 -0.2944 -0.13403 -0.35222 -0.09722 -0.38807 C -0.08524 -0.39963 -0.0691 -0.40217 -0.05521 -0.4068 C -0.0066 -0.40611 0.04184 -0.40773 0.09011 -0.40518 C 0.09514 -0.40495 0.09913 -0.3994 0.10417 -0.39732 C 0.13247 -0.3846 0.15764 -0.36864 0.18021 -0.34112 C 0.19618 -0.32169 0.20226 -0.30921 0.21962 -0.29602 C 0.22101 -0.29163 0.22136 -0.28631 0.22396 -0.28307 C 0.2257 -0.28076 0.22882 -0.28307 0.2309 -0.28122 C 0.2467 -0.26526 0.22674 -0.27544 0.23941 -0.26989 C 0.23733 -0.28631 0.23889 -0.29348 0.2309 -0.30365 C 0.22778 -0.31938 0.2158 -0.33118 0.20556 -0.33927 C 0.19722 -0.355 0.18646 -0.36818 0.17188 -0.37118 C 0.1599 -0.37812 0.15087 -0.38229 0.13802 -0.38437 C 0.08785 -0.38252 0.0375 -0.38252 -0.01285 -0.37859 C -0.02048 -0.37789 -0.02778 -0.37373 -0.03524 -0.37118 C -0.06128 -0.36193 -0.08871 -0.34621 -0.11007 -0.32424 C -0.13368 -0.29972 -0.15 -0.26203 -0.16771 -0.23034 C -0.17118 -0.17761 -0.16979 -0.20907 -0.16614 -0.10847 C -0.16302 -0.02081 -0.15243 0.07285 -0.10417 0.13737 C -0.08871 0.15819 -0.07639 0.17854 -0.05364 0.18224 C -0.0243 0.17946 0.00521 0.18154 0.03386 0.17484 C 0.05052 0.17091 0.06597 0.15957 0.0816 0.15009 C 0.1309 0.12072 0.16788 0.07377 0.20695 0.02474 C 0.23872 -0.01526 0.26354 -0.0333 0.27882 -0.08973 C 0.27778 -0.11887 0.28524 -0.1982 0.2507 -0.21554 C 0.25017 -0.21739 0.25035 -0.21994 0.24931 -0.22132 C 0.24636 -0.22479 0.23941 -0.23034 0.23941 -0.23034 C 0.2342 -0.25185 0.2349 -0.21022 0.24358 -0.19866 C 0.24861 -0.1797 0.25017 -0.15981 0.25469 -0.14038 C 0.25851 -0.08164 0.26129 -0.10245 0.25469 -0.0148 C 0.25417 -0.00833 0.25313 -0.00162 0.2507 0.00416 C 0.24601 0.01549 0.2309 0.02104 0.22257 0.02474 C -0.04028 0.02104 0.03993 0.0525 -0.07483 4.95837E-006 C -0.11215 -0.03631 -0.13854 -0.08765 -0.15642 -0.14408 C -0.16389 -0.21508 -0.16354 -0.27567 -0.15069 -0.34875 C -0.14896 -0.35823 -0.14097 -0.36332 -0.13663 -0.37118 C -0.11684 -0.40634 -0.09566 -0.43062 -0.06215 -0.43686 C -0.04913 -0.4364 0.03611 -0.43455 0.05208 -0.43131 C 0.09202 -0.42276 0.12483 -0.39269 0.16337 -0.38044 C 0.16788 -0.37419 0.17222 -0.36725 0.17743 -0.3617 C 0.18212 -0.35708 0.18802 -0.355 0.19288 -0.3506 C 0.2066 -0.33881 0.22379 -0.31869 0.23229 -0.29995 C 0.2349 -0.28631 0.23837 -0.27359 0.24202 -0.26041 C 0.24063 -0.25971 0.23941 -0.25763 0.23802 -0.25856 C 0.23663 -0.25948 0.23733 -0.26249 0.23663 -0.26411 C 0.23247 -0.27405 0.22934 -0.28261 0.22257 -0.28862 C 0.21511 -0.30273 0.20417 -0.31198 0.19149 -0.31499 C 0.18455 -0.31961 0.17761 -0.32054 0.17049 -0.32424 C 0.14636 -0.32331 0.07952 -0.32516 0.0434 -0.31499 C -0.00173 -0.30227 -0.04635 -0.24676 -0.06614 -0.19288 C -0.06719 -0.18409 -0.06771 -0.1753 -0.0691 -0.16674 C -0.07031 -0.15981 -0.07483 -0.15333 -0.07483 -0.14593 C -0.07483 -0.1043 -0.07239 -0.00532 -0.06076 0.04718 C -0.05417 0.07655 -0.05104 0.0703 -0.03958 0.08857 C -0.01962 0.1198 -0.0066 0.14431 0.02396 0.1561 C 0.06302 0.19033 0.04115 0.17576 0.13663 0.16351 C 0.14566 0.16235 0.18229 0.1272 0.19011 0.12026 C 0.20729 0.10592 0.22761 0.08326 0.24202 0.06406 C 0.24861 0.0555 0.25278 0.04463 0.2592 0.03608 C 0.26702 0.02567 0.27656 0.01781 0.28438 0.00786 C 0.30556 -0.0185 0.32361 -0.05204 0.33386 -0.08811 C 0.33785 -0.12697 0.33906 -0.12674 0.33386 -0.1797 C 0.33316 -0.18686 0.32188 -0.21092 0.31962 -0.21554 C 0.31233 -0.23034 0.30261 -0.25 0.29011 -0.25671 C 0.26823 -0.26873 0.24392 -0.27544 0.22118 -0.28307 C 0.2158 -0.2877 0.21042 -0.29001 0.20556 -0.29602 C 0.20781 -0.27267 0.20938 -0.25486 0.21823 -0.23427 C 0.2257 -0.17276 0.22847 -0.1716 0.21962 -0.07285 C 0.21892 -0.06452 0.21215 -0.05921 0.20851 -0.05227 C 0.18594 -0.01064 0.21458 -0.06106 0.19427 -0.03168 C 0.17726 -0.00717 0.17691 -0.00139 0.1507 0.00416 C 0.09827 0.02891 0.13142 0.01619 0.01406 0.00786 C 0.00261 0.00717 -0.0309 -0.0303 -0.04097 -0.04279 C -0.04097 -0.04279 -0.07673 -0.09066 -0.08594 -0.10291 C -0.09462 -0.11448 -0.10903 -0.1265 -0.11701 -0.14038 C -0.13403 -0.17091 -0.14514 -0.20606 -0.15781 -0.23983 C -0.15885 -0.24884 -0.16076 -0.2574 -0.16059 -0.26619 C -0.16024 -0.28192 -0.16042 -0.2981 -0.15642 -0.31291 C -0.15121 -0.33326 -0.13611 -0.33927 -0.12413 -0.34875 C -0.06719 -0.34806 -0.01024 -0.34852 0.04653 -0.34667 C 0.05191 -0.34644 0.06476 -0.33742 0.06892 -0.33187 C 0.07413 -0.32493 0.07708 -0.31522 0.0816 -0.30759 C 0.08577 -0.2759 0.10469 -0.24884 0.12118 -0.22664 C 0.13212 -0.19288 0.12448 -0.20328 0.13802 -0.18941 C 0.14254 -0.17507 0.14827 -0.16281 0.15208 -0.14824 C 0.15382 -0.12789 0.15 -0.12812 0.16476 -0.12535 C 0.16215 -0.15079 0.16441 -0.17091 0.1507 -0.18941 C 0.14219 -0.22387 0.12361 -0.23705 0.10417 -0.26041 C 0.08715 -0.28076 0.06892 -0.3018 0.04792 -0.31499 C 0.04236 -0.31846 0.03629 -0.31938 0.0309 -0.32239 C 0.02639 -0.32493 0.02274 -0.33025 0.01823 -0.33187 C 0.00886 -0.33488 -0.00052 -0.33441 -0.00989 -0.33557 C -0.02656 -0.33303 -0.04392 -0.33649 -0.0592 -0.32794 C -0.06614 -0.32401 -0.06684 -0.31059 -0.07048 -0.3018 C -0.08055 -0.27845 -0.09444 -0.26133 -0.10712 -0.23983 C -0.12031 -0.16096 -0.11684 -0.19519 -0.12118 -0.13668 C -0.12031 -0.08048 -0.12257 -0.02382 -0.1184 0.03215 C -0.11753 0.04695 -0.11076 0.06013 -0.10573 0.07354 C -0.07726 0.15102 -0.04305 0.18386 0.01528 0.20652 C 0.02847 0.20421 0.04202 0.20328 0.05486 0.19912 C 0.07778 0.19149 0.09636 0.16859 0.11684 0.1524 C 0.12379 0.14685 0.13195 0.14477 0.13941 0.14107 C 0.18646 0.09089 0.15695 0.11887 0.2309 0.06406 C 0.26406 0.03955 0.31632 -0.0407 0.33785 -0.08418 C 0.33611 -0.11563 0.33542 -0.14686 0.33229 -0.17785 C 0.33038 -0.19658 0.32465 -0.20028 0.31823 -0.21554 C 0.30729 -0.24052 0.29427 -0.26249 0.27882 -0.28307 C 0.27431 -0.28909 0.27153 -0.29741 0.26615 -0.3018 C 0.26233 -0.30481 0.25764 -0.3055 0.25347 -0.30759 C 0.23021 -0.32979 0.2257 -0.32609 0.19427 -0.32979 C 0.1882 -0.32909 0.18195 -0.33002 0.17587 -0.32794 C 0.17066 -0.32609 0.17413 -0.31707 0.17587 -0.31499 C 0.17952 -0.31106 0.18455 -0.31129 0.18872 -0.30944 C 0.20087 -0.28747 0.18455 -0.31406 0.19861 -0.2981 C 0.20035 -0.29602 0.20122 -0.29279 0.20278 -0.29047 C 0.20642 -0.28515 0.21389 -0.27544 0.21389 -0.27544 C 0.21545 -0.27174 0.21649 -0.26758 0.21823 -0.26411 C 0.22031 -0.25948 0.22344 -0.25578 0.22535 -0.25116 C 0.22917 -0.24144 0.23195 -0.23104 0.23524 -0.22132 C 0.23715 -0.21554 0.24063 -0.20421 0.24063 -0.20421 C 0.24115 -0.19727 0.24219 -0.1908 0.24202 -0.18363 C 0.24097 -0.10777 0.24983 -0.02983 0.23524 0.04348 C 0.23125 0.0636 0.22379 0.0821 0.21823 0.10153 C 0.21042 0.12835 0.19636 0.16327 0.17448 0.17299 C 0.1632 0.17021 0.15191 0.16836 0.14063 0.16351 C 0.10816 0.12488 0.14774 0.16929 0.11406 0.13922 C 0.10712 0.13298 0.10139 0.12419 0.09427 0.11841 C 0.06858 0.09736 0.04358 0.08672 0.02118 0.05828 C 0.00712 0.04093 -0.00798 0.02474 -0.02118 0.00601 C -0.03038 -0.00694 -0.0467 -0.03538 -0.0467 -0.03538 C -0.06545 -0.12465 -0.05434 -0.22664 -0.00712 -0.2981 C -0.00156 -0.30643 0.0059 -0.31221 0.01129 -0.32054 C 0.01684 -0.32909 0.01927 -0.34066 0.02535 -0.34875 C 0.05 -0.38182 0.0717 -0.40056 0.10538 -0.4068 C 0.18559 -0.40518 0.16858 -0.41004 0.2099 -0.3994 C 0.21597 -0.39316 0.22153 -0.38599 0.22656 -0.37859 C 0.21823 -0.37581 0.2125 -0.38205 0.20417 -0.38622 C 0.19653 -0.39038 0.18542 -0.39339 0.17743 -0.39547 C 0.15712 -0.40079 0.13594 -0.40402 0.11545 -0.40865 C 0.10938 -0.40842 0.05729 -0.41929 0.03941 -0.39732 C 0.0158 -0.36887 -0.02118 -0.29995 -0.02118 -0.29995 C -0.04184 -0.23034 -0.07396 -0.16813 -0.09601 -0.09921 C -0.10295 -0.02983 -0.13733 0.08904 -0.07187 0.12234 C -0.06545 0.12558 -0.04757 0.1272 -0.04097 0.12789 C 0.09531 0.1235 0.09254 0.12535 0.18021 0.11101 C 0.25278 0.07678 0.30886 -0.00601 0.32813 -0.10476 C 0.32899 -0.11563 0.33142 -0.12604 0.3309 -0.13668 C 0.32899 -0.18062 0.32604 -0.22456 0.32118 -0.26804 C 0.31719 -0.30227 0.28281 -0.35083 0.26059 -0.36772 C 0.25243 -0.3735 0.24323 -0.37627 0.23524 -0.38252 C 0.23281 -0.38437 0.23056 -0.38622 0.22795 -0.38807 C 0.13507 -0.38737 -0.00052 -0.48289 -0.05069 -0.37859 C -0.04132 -0.37026 -0.03003 -0.37627 -0.01996 -0.36933 C -0.0033 -0.35823 -0.00694 -0.35592 0.00417 -0.34112 C 0.01771 -0.32308 0.01129 -0.34205 0.02118 -0.31869 C 0.02344 -0.31337 0.02431 -0.30689 0.02674 -0.3018 C 0.03351 -0.28747 0.04219 -0.27452 0.04913 -0.26041 C 0.05642 -0.22294 0.05972 -0.19242 0.06198 -0.15356 C 0.06111 -0.11748 0.06094 -0.08094 0.0592 -0.04464 C 0.05903 -0.0407 0.05677 -0.03723 0.05608 -0.03353 C 0.05417 -0.02359 0.05365 0.00809 0.04913 0.01526 C 0.04653 0.01989 0.04167 0.02128 0.03802 0.02474 C 0.01962 0.04232 0.03229 0.037 0.0099 0.03978 C -0.05278 0.05782 -0.04531 0.04556 -0.15642 0.03978 C -0.1684 0.02891 -0.18333 0.02336 -0.19444 0.01156 C -0.20712 -0.00185 -0.20885 -0.00763 -0.21684 -0.02405 C -0.23437 -0.12465 -0.25851 -0.29695 -0.17604 -0.35245 C -0.16875 -0.36471 -0.17083 -0.3654 -0.15503 -0.36563 C -0.12413 -0.3661 -0.09305 -0.36425 -0.06215 -0.36355 C -0.04114 -0.35338 -0.01788 -0.35222 -2.77778E-007 -0.33372 C 0.0033 -0.31568 0.00469 -0.29764 0.01684 -0.28677 C 0.02188 -0.27613 0.03038 -0.2729 0.03941 -0.26989 C 0.04462 -0.26272 0.05052 -0.25416 0.05764 -0.25116 C 0.06024 -0.24121 0.06354 -0.24584 0.06615 -0.23612 C 0.0658 -0.23497 0.06198 -0.22109 0.06059 -0.21947 C 0.05799 -0.21647 0.05486 -0.21554 0.05208 -0.21346 C 0.03386 -0.19982 0.04392 -0.20352 0.02813 -0.20051 C -0.06632 -0.20305 -0.07708 -0.19681 -0.13941 -0.21554 C -0.15399 -0.22826 -0.16094 -0.23381 -0.1691 -0.25486 C -0.16962 -0.25786 -0.16962 -0.2611 -0.17048 -0.26411 C -0.17101 -0.26573 -0.17274 -0.26642 -0.17326 -0.26804 C -0.17535 -0.27452 -0.17569 -0.28192 -0.1776 -0.28862 C -0.17812 -0.29741 -0.17708 -0.30643 -0.17882 -0.31499 C -0.17917 -0.31684 -0.18194 -0.31637 -0.18316 -0.31684 C -0.19271 -0.32031 -0.20017 -0.32262 -0.20989 -0.32424 C -0.22361 -0.33187 -0.22882 -0.33418 -0.24219 -0.33927 C -0.25017 -0.34228 -0.24948 -0.34158 -0.25503 -0.34667 C -0.25642 -0.34783 -0.26111 -0.3506 -0.2592 -0.3506 C -0.1993 -0.3506 -0.13889 -0.34806 -0.07882 -0.34667 C -0.03802 -0.34274 0.23264 -0.30504 0.13663 -0.35615 C 0.08073 -0.35546 0.02483 -0.35592 -0.03108 -0.3543 C -0.04358 -0.35384 -0.04271 -0.34945 -0.05364 -0.34482 C -0.06788 -0.33904 -0.08003 -0.33557 -0.09305 -0.32609 C -0.10555 -0.31684 -0.11736 -0.30574 -0.13125 -0.29995 C -0.13576 -0.28076 -0.12726 -0.25463 -0.12257 -0.23612 C -0.11944 -0.19797 -0.12448 -0.23566 -0.11701 -0.20976 C -0.11545 -0.2049 -0.1158 -0.19935 -0.11406 -0.19473 C -0.11111 -0.1871 -0.10295 -0.17415 -0.10295 -0.17415 C -0.09948 -0.16073 -0.09826 -0.14639 -0.09149 -0.13483 C -0.08976 -0.12396 -0.08715 -0.12396 -0.08038 -0.11795 C -0.02778 -0.1191 0.07535 -0.07609 0.1125 -0.15911 C 0.11945 -0.19681 0.12552 -0.24052 0.1099 -0.27544 C 0.10469 -0.27428 0.09896 -0.27452 0.09427 -0.27174 C 0.09028 -0.26943 0.08229 -0.25254 0.08021 -0.24954 C 0.07118 -0.23566 0.06163 -0.22248 0.05208 -0.20976 C 0.05052 -0.20421 0.04965 -0.1982 0.04792 -0.19288 C 0.04549 -0.18617 0.04132 -0.18085 0.03941 -0.17415 C 0.0375 -0.16767 0.0375 -0.16073 0.03646 -0.15356 C 0.03524 -0.1309 0.02743 -0.0673 0.04219 -0.04649 C 0.05295 -0.04787 0.06389 -0.04718 0.07465 -0.05042 C 0.09636 -0.05736 0.08646 -0.06106 0.10139 -0.0747 C 0.12743 -0.09898 0.10156 -0.06614 0.12396 -0.09158 C 0.14566 -0.1161 0.16024 -0.14824 0.16875 -0.18363 C 0.1684 -0.19565 0.17882 -0.26827 0.1533 -0.27937 C 0.12344 -0.27729 0.09202 -0.27498 0.0632 -0.26226 C 0.04132 -0.25254 0.01545 -0.23497 -0.00417 -0.21947 C -0.01406 -0.21138 -0.02239 -0.20051 -0.03264 -0.19288 C -0.06215 -0.17068 -0.09722 -0.16235 -0.12951 -0.14986 C -0.14514 -0.15564 -0.14167 -0.15009 -0.14219 -0.18178 C -0.14253 -0.20699 -0.14687 -0.24329 -0.13246 -0.26619 C -0.12882 -0.27197 -0.12257 -0.27405 -0.1184 -0.27937 C -0.11215 -0.28654 -0.10764 -0.29625 -0.10139 -0.30365 C -0.0651 -0.34621 -0.02048 -0.35037 0.02535 -0.35245 C 0.03542 -0.35176 0.04636 -0.35407 0.05608 -0.3506 C 0.07813 -0.34274 0.10729 -0.28007 0.11945 -0.26619 C 0.13976 -0.24353 0.1507 -0.21924 0.16615 -0.19126 C 0.17049 -0.18316 0.17622 -0.17692 0.18021 -0.16859 C 0.19566 -0.13529 0.20278 -0.08811 0.20695 -0.04857 C 0.20608 -0.04348 0.20521 -0.03862 0.20417 -0.03353 C 0.20382 -0.03168 0.20399 -0.02891 0.20278 -0.02798 C 0.20087 -0.0259 0.19809 -0.0266 0.19583 -0.0259 C 0.19202 -0.02475 0.18837 -0.02336 0.18455 -0.0222 C 0.13854 -0.02336 0.09236 -0.02243 0.04653 -0.0259 C 0.03698 -0.0266 0.01493 -0.04556 0.0099 -0.05042 C -0.0092 -0.06822 -0.01823 -0.09066 -0.03264 -0.11402 C -0.05208 -0.14639 -0.05694 -0.15564 -0.06788 -0.19658 C -0.07292 -0.25278 -0.07517 -0.26388 -0.0691 -0.34297 C -0.0684 -0.35523 -0.05156 -0.36887 -0.0467 -0.37489 C -0.03437 -0.38969 -0.02778 -0.39824 -0.01128 -0.4031 C 0.0066 -0.40194 0.02465 -0.40402 0.04219 -0.3994 C 0.04948 -0.39755 0.0559 -0.39061 0.06198 -0.38437 C 0.09045 -0.35592 0.12222 -0.32007 0.14636 -0.28492 C 0.16615 -0.25648 0.17431 -0.23335 0.19149 -0.19658 C 0.19549 -0.18802 0.20278 -0.17044 0.20278 -0.17044 C 0.2099 -0.13113 0.21129 -0.1309 0.21129 -0.08233 C 0.21129 -0.071 0.21181 -0.0444 0.20278 -0.03353 C 0.19913 -0.02937 0.19427 -0.02752 0.19011 -0.02405 C 0.1566 0.02683 0.10278 -0.02035 0.0632 -0.03353 C 0.00174 -0.09366 -0.05017 -0.11656 -0.08316 -0.19473 C -0.08594 -0.21138 -0.09062 -0.23312 -0.08455 -0.24954 C -0.07934 -0.26318 -0.05955 -0.27058 -0.0493 -0.27544 C -0.00989 -0.27428 0.02969 -0.27822 0.06892 -0.27174 C 0.08507 -0.2692 0.11545 -0.24954 0.11545 -0.24954 C 0.12743 -0.2352 0.14149 -0.2241 0.1533 -0.20976 C 0.16719 -0.19311 0.17708 -0.17021 0.18455 -0.14824 C 0.1882 -0.12581 0.19097 -0.11702 0.18455 -0.08973 C 0.18281 -0.0821 0.17691 -0.07748 0.17327 -0.071 C 0.16129 -0.04972 0.16042 -0.04024 0.13941 -0.03723 C 0.09792 -0.04024 0.0559 -0.03515 0.01528 -0.04649 C -0.03489 -0.06059 -0.09132 -0.14686 -0.1184 -0.20051 C -0.12569 -0.23451 -0.12899 -0.25694 -0.12535 -0.29417 C -0.12483 -0.30019 -0.11562 -0.31129 -0.11128 -0.31291 C -0.10434 -0.31545 -0.09722 -0.31545 -0.0901 -0.31684 C -0.0467 -0.31614 -0.00278 -0.31661 0.0408 -0.31499 C 0.04636 -0.31476 0.02934 -0.31314 0.02396 -0.31291 C -0.02778 -0.31106 -0.07934 -0.31036 -0.13125 -0.30944 C -0.14653 -0.31036 -0.16215 -0.30921 -0.1776 -0.31291 C -0.18108 -0.31383 -0.17066 -0.31591 -0.16771 -0.31869 C -0.13542 -0.34991 -0.19097 -0.31059 -0.13663 -0.34875 C -0.10469 -0.37118 -0.06962 -0.38552 -0.03524 -0.3994 C -0.02743 -0.40264 -0.01944 -0.40564 -0.01128 -0.40865 C -0.00625 -0.4105 0.00417 -0.41443 0.00417 -0.41443 C 0.01215 -0.41304 0.02222 -0.41813 0.02813 -0.4105 C 0.03264 -0.40472 0.02413 -0.38205 0.02118 -0.37489 C 0.00278 -0.32909 -0.02726 -0.29972 -0.05521 -0.26411 C -0.06823 -0.24746 -0.07743 -0.2315 -0.08733 -0.21161 C -0.08923 -0.20814 -0.09427 -0.19843 -0.09149 -0.20051 C -0.05364 -0.22826 -0.11562 -0.18131 -0.05781 -0.23427 C 0.05955 -0.34181 -0.03177 -0.26272 0.04653 -0.30759 C 0.08663 -0.33002 0.0974 -0.34528 0.14063 -0.35245 C 0.15156 -0.35847 0.15972 -0.36587 0.14063 -0.33927 C 0.13142 -0.32609 0.11476 -0.31152 0.10278 -0.30365 C 0.05087 -0.27035 0.00573 -0.25046 -0.0493 -0.23034 C -0.06198 -0.22572 -0.075 -0.22364 -0.08733 -0.21947 C -0.09739 -0.21554 -0.10694 -0.20999 -0.11701 -0.20606 C -0.12101 -0.20444 -0.12535 -0.20375 -0.12951 -0.20236 C -0.13108 -0.2019 -0.13524 -0.19958 -0.13385 -0.20051 C -0.1316 -0.20213 -0.12917 -0.20305 -0.12673 -0.20421 C -0.11094 -0.22179 -0.08264 -0.23335 -0.06337 -0.24168 C -0.03264 -0.25509 0.0059 -0.26989 0.03941 -0.27544 C 0.0684 -0.2803 0.09774 -0.28122 0.12656 -0.28677 C 0.14028 -0.27475 0.08351 -0.24029 0.08021 -0.23797 C 0.02118 -0.19935 -0.03993 -0.15773 -0.10139 -0.1272 C -0.12535 -0.11563 -0.14983 -0.105 -0.17326 -0.09158 C -0.18594 -0.08441 -0.19844 -0.07563 -0.20989 -0.06545 C -0.22344 -0.05365 -0.26389 -0.02405 -0.24792 -0.0259 C -0.24271 -0.0266 -0.23767 -0.02706 -0.23246 -0.02798 C -0.19878 -0.03747 -0.16771 -0.0555 -0.13385 -0.06545 C -0.09774 -0.07609 -0.06163 -0.08534 -0.02535 -0.09528 C -0.01094 -0.09921 0.00365 -0.10268 0.01823 -0.10476 C 0.04219 -0.10823 0.09011 -0.11217 0.09011 -0.11217 C 0.10261 -0.10662 0.06632 -0.08973 0.06615 -0.08973 C 0.02761 -0.06938 -0.00555 -0.05412 -0.04514 -0.04094 C -0.22517 0.01827 -0.01076 -0.06175 -0.2059 0.01919 C -0.29305 0.05527 -0.23871 0.02521 -0.29444 0.05828 C -0.30104 0.0673 -0.30278 0.0666 -0.28455 0.06591 C -0.25347 0.06475 -0.22274 0.06198 -0.19167 0.06013 C -0.09167 0.0444 0.00625000000000001 0.03561 0.10677 0.0303 C 0.11945 0.03076 0.13281 0.02683 0.14497 0.03215 C 0.15052 0.03469 0.13351 0.037 0.12813 0.03978 C 0.09618 0.0562 0.12049 0.04903 0.0816 0.05481 C -0.03003 0.09783 0.12465 0.0414 0.01406 0.07169 C -0.0092 0.07817 -0.05521 0.09598 -0.05521 0.09598 C -0.06319 0.10338 -0.07604 0.11078 -0.08316 0.12026 C 0.02136 0.12118 0.12604 0.12026 0.2309 0.12234 C 0.23299 0.12234 0.22691 0.12465 0.22535 0.12604 C 0.22101 0.12905 0.21719 0.13321 0.2125 0.13552 C 0.20261 0.14061 0.19202 0.14431 0.1816 0.14824 C 0.11077 0.17622 0.19688 0.13737 0.07726 0.19542 C 0.04879 0.2093 -0.00989 0.23104 -0.00989 0.23104 C -0.01649 0.23635 -0.02344 0.24144 -0.02951 0.24792 C -0.03472 0.25347 -0.04375 0.26665 -0.04375 0.26665 C -0.00243 0.32169 -0.04687 0.26434 0.12118 0.27428 C 0.13247 0.27498 0.09844 0.27706 0.08733 0.27798 C -0.03385 0.28793 0.04809 0.27891 -0.02535 0.28746 C -0.03298 0.29001 -0.0408 0.29116 -0.04809 0.29463 C -0.05295 0.29741 -0.06146 0.2988 -0.06215 0.3062 C -0.0625 0.31198 -0.05364 0.30874 -0.0493 0.3099 C 0.03142 0.29995 0.37101 0.29556 0.19722 0.30435 C 0.16094 0.3062 0.12483 0.30689 0.08872 0.30805 C 0.07604 0.3092 0.0632 0.31221 0.05052 0.31175 C 0.00781 0.31036 -0.03489 0.3092 -0.07743 0.3025 C -0.0816 0.3018 -0.07101 0.29556 -0.06788 0.29278 C -0.05937 0.28585 -0.05121 0.27821 -0.04219 0.27243 C -0.03142 0.26526 -0.01996 0.26087 -0.00851 0.25555 C 0.03056 0.23728 0.06875 0.22317 0.10851 0.20837 C 0.18958 0.17854 0.1467 0.18524 0.18733 0.18039 C -0.47847 0.17576 -0.51267 0.20375 -0.30295 0.16721 C -0.25781 0.14917 -0.21215 0.14778 -0.16614 0.13552 C -0.1533 0.13205 -0.14097 0.12604 -0.12812 0.12234 C -0.11719 0.11887 -0.10573 0.11702 -0.09444 0.11471 C -0.08403 0.10731 -0.06233 0.09297 -0.05208 0.08279 C -0.04844 0.07909 -0.04219 0.06984 -0.04219 0.06984 C -0.04114 0.06452 -0.03871 0.06198 -0.04514 0.06198 C -0.14653 0.06105 -0.24792 0.06105 -0.3493 0.06013 C -0.33715 0.03608 -0.31614 0.02336 -0.29861 0.00786 C -0.29028 0.00046 -0.28316 -0.00971 -0.27465 -0.01665 C -0.24878 -0.03793 -0.20104 -0.07169 -0.17048 -0.09343 C -0.10399 -0.14084 -0.14948 -0.10291 -0.10712 -0.14824 C -0.09705 -0.15888 -0.08767 -0.16513 -0.08038 -0.1797 C -0.16302 -0.22109 -0.25694 -0.18108 -0.34514 -0.18363 C -0.34687 -0.18363 -0.3434 -0.18779 -0.34219 -0.18941 C -0.33351 -0.19912 -0.32448 -0.20814 -0.31545 -0.21739 C -0.29097 -0.24283 -0.26476 -0.26943 -0.2368 -0.28677 C -0.15955 -0.33464 -0.08385 -0.38367 -0.00417 -0.42368 C -0.00087 -0.42738 0.00191 -0.43178 0.00556 -0.43501 C 0.00677 -0.43617 0.01094 -0.43825 0.0099 -0.43686 C 0.00608 -0.43178 0.00208 -0.42623 -0.00278 -0.42368 C -0.00764 -0.42114 -0.01337 -0.42253 -0.0184 -0.42183 C -0.0592 -0.3883 -0.10104 -0.37835 -0.14792 -0.36933 C -0.18455 -0.3624 -0.21996 -0.35268 -0.25642 -0.34875 C -0.28194 -0.34991 -0.30764 -0.34551 -0.33246 -0.35245 C -0.33663 -0.35361 -0.33194 -0.36448 -0.32951 -0.36933 C -0.3276 -0.37373 -0.32274 -0.37512 -0.31979 -0.37859 C -0.29045 -0.41212 -0.24635 -0.42183 -0.20868 -0.42738 C -0.18194 -0.43131 -0.12812 -0.43686 -0.12812 -0.43686 C -0.06163 -0.43409 0.03802 -0.46092 0.09722 -0.39177 C 0.10208 -0.35893 0.11042 -0.37003 0.09983 -0.31684 C 0.09844 -0.30967 0.09236 -0.3055 0.08872 -0.29995 C 0.07743 -0.28446 0.06615 -0.27012 0.05347 -0.25671 C -0.0026 -0.19727 -0.07396 -0.17623 -0.14375 -0.16859 C -0.17187 -0.16975 -0.2 -0.16998 -0.22812 -0.17229 C -0.23837 -0.17322 -0.23663 -0.1753 -0.23802 -0.18548 C -0.23733 -0.19797 -0.23906 -0.21138 -0.23524 -0.22294 C -0.23108 -0.23566 -0.1934 -0.24075 -0.18733 -0.24168 C -0.12882 -0.23959 0.14254 -0.28446 0.21545 -0.14593 C 0.22379 -0.10754 0.19983 -0.08002 0.18021 -0.05597 C 0.12535 0.01156 0.06858 0.0303 -0.00278 0.03793 C -0.05469 0.03538 -0.10625 0.03608 -0.15781 0.0303 C -0.17101 0.02891 -0.18889 -0.00347 -0.18889 -0.00347 C -0.19739 -0.07424 -0.17187 -0.1117 -0.13125 -0.14408 C -0.12101 -0.15217 -0.11111 -0.16189 -0.1 -0.16674 C -0.08611 -0.17322 -0.04705 -0.17623 -0.03264 -0.17785 C 0.05764 -0.176 0.13368 -0.22271 0.18455 -0.12905 C 0.19288 -0.09575 0.18351 -0.0747 0.16736 -0.05227 C 0.14462 -0.02012 0.12205 -0.00671 0.08733 -0.00347 C 0.05208 -0.00046 0.01684 -0.00093 -0.0184 4.95837E-006 C -0.05694 -0.00093 -0.09566 4.95837000000004E-006 -0.13385 -0.00347 C -0.15312 -0.00532 -0.17205 -0.02174 -0.1901 -0.02983 C -0.21927 -0.06822 -0.18055 -0.09413 -0.16059 -0.11402 C -0.11111 -0.16351 -0.1625 -0.12581 -0.09722 -0.15911 C -0.0441 -0.18617 0.00399 -0.21739 0.06059 -0.22664 C 0.07552 -0.22549 0.09063 -0.22572 0.10538 -0.22294 C 0.11094 -0.22202 0.11042 -0.21184 0.11129 -0.20791 C 0.11927 -0.17368 0.12552 -0.14408 0.12952 -0.10847 C 0.12708 -0.07586 0.13663 -0.02128 0.10677 -0.00347 C 0.09688 0.00231 0.08507 0.00277 0.07465 0.00786 C -0.01458 0.00185 -0.08941 -0.00301 -0.17465 -0.02798 C -0.18403 -0.034 -0.1941 -0.03862 -0.20278 -0.04649 C -0.21614 -0.05874 -0.22344 -0.08233 -0.22969 -0.10106 C -0.22812 -0.12674 -0.22934 -0.15264 -0.22535 -0.17785 C -0.22361 -0.18848 -0.21771 -0.1975 -0.21285 -0.20606 C -0.20312 -0.22202 -0.19219 -0.23612 -0.18194 -0.25116 C -0.17604 -0.25971 -0.16597 -0.26018 -0.15781 -0.26411 C -0.12969 -0.27752 -0.12743 -0.27637 -0.09601 -0.28492 C -0.02969 -0.2833 0.0375 -0.29279 0.10278 -0.27729 C 0.11441 -0.27452 0.12552 -0.26966 0.13663 -0.26411 C 0.15156 -0.25648 0.18021 -0.23797 0.18021 -0.23797 C 0.18941 -0.21762 0.1875 -0.21762 0.18872 -0.18733 C 0.17101 -0.16952 0.15226 -0.16489 0.1309 -0.15726 C -0.05955 -0.16073 -0.15208 -0.14431 -0.30712 -0.18941 C -0.33351 -0.20467 -0.34618 -0.20768 -0.36614 -0.23427 C -0.37413 -0.24491 -0.37934 -0.25925 -0.3875 -0.26989 C -0.38594 -0.29625 -0.38628 -0.32285 -0.38316 -0.34875 C -0.38246 -0.35407 -0.37899 -0.358 -0.37604 -0.3617 C -0.34548 -0.40241 -0.35364 -0.39963 -0.31701 -0.4068 C -0.30712 -0.40865 -0.29722 -0.40934 -0.28733 -0.4105 C -0.18038 -0.40773 -0.10052 -0.42576 -0.01545 -0.33557 C 0.00729 -0.31152 0.02865 -0.28492 0.03802 -0.24723 C 0.03698 -0.23913 0.03802 -0.23034 0.03524 -0.22294 C 0.03351 -0.21809 0.0283 -0.21716 0.02535 -0.21346 C 0.02118 -0.20837 0.01858 -0.20097 0.01406 -0.19658 C -0.01614 -0.16767 -0.06319 -0.17415 -0.09601 -0.17229 C -0.18802 -0.17623 -0.28142 -0.16374 -0.36337 -0.22664 C -0.37361 -0.24676 -0.38524 -0.27313 -0.3691 -0.29602 C -0.36441 -0.30273 -0.35712 -0.30504 -0.35208 -0.31106 C -0.3467 -0.31776 -0.34358 -0.32724 -0.33819 -0.33372 C -0.31285 -0.3624 -0.2868 -0.37465 -0.25503 -0.38252 C -0.18177 -0.38044 -0.10486 -0.38668 -0.03264 -0.36355 C -0.00746 -0.34482 0.00972 -0.32655 0.01684 -0.28862 C 0.0158 -0.28099 0.01528 -0.2581 0.0099 -0.24954 C -0.01667 -0.20675 -0.04861 -0.19218 -0.08889 -0.18178 C -0.21701 -0.18617 -0.22847 -0.15009 -0.3 -0.22294 C -0.30851 -0.2315 -0.31389 -0.24491 -0.32118 -0.25486 C -0.31927 -0.28053 -0.32205 -0.30782 -0.31545 -0.33187 C -0.30625 -0.36679 -0.27031 -0.3809 -0.24792 -0.38807 C -0.22986 -0.3876 -0.12292 -0.39732 -0.07882 -0.37304 C -0.05469 -0.35962 -0.03194 -0.34181 -0.00851 -0.32609 C 0.01684 -0.30944 0.04497 -0.27405 0.06198 -0.24353 C 0.06997 -0.22919 0.08438 -0.19866 0.08438 -0.19866 C 0.08524 -0.19195 0.08785 -0.18478 0.08733 -0.17785 C 0.08577 -0.15819 0.08386 -0.1383 0.07865 -0.1198 C 0.06233 -0.06059 -0.02517 -0.0555 -0.06215 -0.05227 C -0.09479 -0.05319 -0.24375 -0.00902 -0.29861 -0.08233 C -0.3158 -0.15102 -0.27083 -0.21716 -0.22274 -0.23034 C -0.21007 -0.23381 -0.19722 -0.23427 -0.18472 -0.23612 C -0.1158 -0.23427 -0.01979 -0.25069 0.04653 -0.19658 C 0.05469 -0.1901 0.06111 -0.17993 0.06892 -0.17229 C 0.08611 -0.10615 0.04219 -0.08002 0.00695 -0.06545 C -0.11302 -0.06776 -0.15069 -0.01087 -0.2059 -0.08418 C -0.20538 -0.09482 -0.2059 -0.10569 -0.20417 -0.1161 C -0.19948 -0.14847 -0.17448 -0.1716 -0.15642 -0.18941 C -0.14965 -0.19565 -0.14462 -0.20583 -0.13663 -0.20976 C -0.11389 -0.22155 -0.06684 -0.22202 -0.04219 -0.22479 C 0.01667 -0.22294 0.07327 -0.2352 0.12535 -0.19866 C 0.13438 -0.18525 0.14427 -0.17345 0.1507 -0.15726 C 0.15434 -0.14778 0.16042 -0.1272 0.16042 -0.1272 C 0.15781 -0.09783 0.15729 -0.06799 0.15208 -0.03909 C 0.15052 -0.0303 0.14514 -0.02359 0.14063 -0.01665 C 0.10886 0.034 0.10573 0.03746 0.06059 0.05666 C 0.03125 0.05597 -0.075 0.09135 -0.08733 0.03215 C -0.08385 -0.03469 -0.05312 -0.05389 -0.01684 -0.09158 C 0.01892 -0.12859 0.04792 -0.16975 0.08733 -0.20051 C 0.10729 -0.216 0.12847 -0.22896 0.14774 -0.24538 C 0.16163 -0.25717 0.17361 -0.27267 0.18733 -0.28492 C 0.20903 -0.30435 0.2217 -0.30967 0.23663 -0.33765 C 0.23941 -0.35268 0.2316 -0.35939 0.22257 -0.36563 C 0.13976 -0.36425 0.05712 -0.36402 -0.02535 -0.3617 C -0.03437 -0.36147 -0.04358 -0.3617 -0.05208 -0.358 C -0.06753 -0.35153 -0.09601 -0.33187 -0.09601 -0.33187 C -0.11406 -0.30759 -0.13108 -0.28122 -0.1493 -0.25671 C -0.16007 -0.22618 -0.17274 -0.19843 -0.18194 -0.16674 C -0.17986 -0.12859 -0.18177 -0.08973 -0.17604 -0.05227 C -0.17205 -0.02567 -0.13524 -0.02798 -0.12257 -0.0259 C -0.01146 -0.03168 0.09531 -0.02567 0.19149 -0.11032 C 0.22882 -0.14339 0.25208 -0.17322 0.26875 -0.22849 C 0.27379 -0.27752 0.27327 -0.33742 0.24792 -0.37674 C 0.24167 -0.38622 0.23351 -0.39269 0.22656 -0.40125 C 0.21511 -0.41559 0.20139 -0.43779 0.18733 -0.44843 C 0.17587 -0.45652 0.15191 -0.45768 0.14063 -0.4593 C 0.06788 -0.45421 -0.0151 -0.46184 -0.06215 -0.36563 C -0.07413 -0.34066 -0.08923 -0.31753 -0.09861 -0.29047 C -0.10885 -0.2611 -0.12951 -0.20236 -0.12951 -0.20236 C -0.14548 -0.09251 -0.14358 0.08279 -0.04375 0.12789 C -0.03524 0.13182 -0.02604 0.13043 -0.01684 0.13159 C 0.0184 0.12858 0.05399 0.12997 0.08872 0.12234 C 0.10017 0.1198 0.10972 0.10939 0.11945 0.10153 C 0.17257 0.06013 0.21337 0.000460000000000002 0.23663 -0.0747 C 0.24219 -0.13645 0.24479 -0.13668 0.23386 -0.21554 C 0.22882 -0.25023 0.21406 -0.2766 0.19861 -0.30365 C 0.16667 -0.35847 0.13021 -0.3883 0.07865 -0.39547 C 0.05608 -0.39292 0.03333 -0.39408 0.01129 -0.38807 C -0.00121 -0.3846 -0.0125 -0.37489 -0.02396 -0.36772 C -0.08906 -0.32586 -0.1434 -0.26758 -0.16771 -0.17415 C -0.17812 -0.13483 -0.17899 -0.1087 -0.18316 -0.0673 C -0.18229 -0.02405 -0.18576 0.01966 -0.18038 0.06198 C -0.17847 0.07701 -0.16927 0.08811 -0.16198 0.09968 C -0.13177 0.14593 -0.1342 0.14015 -0.1 0.16166 C -0.06771 0.1598 -0.03507 0.16119 -0.00278 0.1561 C 0.04462 0.1487 0.09149 0.1117 0.13368 0.08464 C 0.15191 0.05758 0.17274 0.03376 0.19011 0.00601 C 0.20608 -0.01943 0.21129 -0.03978 0.22118 -0.06915 C 0.22465 -0.11748 0.22761 -0.13229 0.21684 -0.18941 C 0.21406 -0.20305 0.20695 -0.21462 0.20139 -0.22664 C 0.17205 -0.29001 0.14497 -0.31476 0.09011 -0.32239 C 0.05538 -0.31984 0.02049 -0.32123 -0.01406 -0.31499 C -0.06788 -0.3055 -0.0993 -0.25648 -0.13524 -0.20976 C -0.18941 -0.13946 -0.15486 -0.20167 -0.19444 -0.11795 C -0.20989 -0.037 -0.21996 0.04995 -0.1691 0.10916 C -0.15694 0.12326 -0.14427 0.1383 -0.12812 0.14477 C -0.11962 0.14824 -0.11042 0.14732 -0.10139 0.14824 C -0.0691 0.14547 -0.03611 0.14639 -0.00417 0.13922 C 0.02205 0.13321 0.0566 0.10083 0.07604 0.07909 C 0.13021 0.0185 0.15052 -0.02706 0.16875 -0.11795 C 0.1757 -0.2056 0.17396 -0.35338 0.08872 -0.36933 C 0.07222 -0.36841 0.05538 -0.37118 0.03941 -0.36563 C 0.02778 -0.36147 0.01806 -0.3506 0.00833 -0.34112 C -0.05573 -0.27752 -0.09462 -0.22086 -0.12535 -0.12165 C -0.13298 -0.05342 -0.14739 0.04232 -0.09444 0.08279 C -0.08298 0.09135 -0.07187 0.09181 -0.0592 0.09412 C -0.02778 0.08857 0.00469 0.08857 0.03524 0.07724 C 0.0559 0.06961 0.08386 0.02937 0.09983 0.01156 C 0.14445 -0.03816 0.17153 -0.0784 0.19722 -0.14593 C 0.20573 -0.20051 0.2092 -0.28353 0.16875 -0.32054 C 0.15365 -0.33441 0.15017 -0.3321 0.13229 -0.33557 C 0.09948 -0.3284 0.07413 -0.32724 0.04497 -0.30759 C 0.03195 -0.29857 0.02118 -0.28515 0.00833 -0.27544 C -0.00851 -0.26249 -0.02778 -0.25486 -0.04375 -0.23983 C -0.05955 -0.22502 -0.07135 -0.20421 -0.08594 -0.18733 C -0.09653 -0.1753 -0.10903 -0.16698 -0.1184 -0.15356 C -0.14496 -0.1161 -0.14861 -0.09736 -0.16337 -0.05412 C -0.16771 -0.01896 -0.18542 0.06684 -0.14653 0.07539 C -0.11059 0.06267 -0.07708 0.05597 -0.04809 0.02289 C -0.03733 0.01087 -0.02882 -0.00439 -0.0184 -0.01665 C 0.02517 -0.06799 0.06997 -0.10962 0.09271 -0.18363 C 0.09184 -0.1901 0.09323 -0.1975 0.09011 -0.20236 C 0.08577 -0.2086 0.07708 -0.19496 0.06892 -0.18733 C 0.05972 -0.17877 0.05017 -0.17044 0.0408 -0.16281 C 0.01146 -0.13922 -0.02396 -0.12604 -0.04809 -0.09343 C -0.07604 -0.05504 -0.11042 -0.01365 -0.13663 0.02845 C -0.13767 0.03261 -0.14288 0.04186 -0.13941 0.04163 C -0.12344 0.0407 -0.09358 0.01734 -0.08038 0.00601 C -0.05434 -0.01665 -0.02864 -0.04024 -0.00278 -0.06337 C 0.04445 -0.10546 0.0908 -0.14847 0.12396 -0.21161 C 0.125 -0.21346 0.12066 -0.20953 0.11945 -0.20791 C 0.11528 -0.20259 0.11163 -0.19588 0.10677 -0.19126 C 0.08611 -0.16998 0.06615 -0.15842 0.0434 -0.14038 C -0.04028 -0.07378 0.05608 -0.13853 -0.09305 -0.05227 C -0.12969 -0.03122 -0.1467 -0.02012 -0.18316 -0.01087 C -0.13142 -0.05874 -0.06684 -0.08094 -0.00851 -0.11217 C 0.01702 -0.12581 0.04184 -0.142 0.06754 -0.15541 C 0.07535 -0.15934 0.08351 -0.16212 0.09132 -0.16489 C 0.0934 -0.16559 0.09896 -0.16767 0.09722 -0.16674 C 0.03663 -0.13969 0.09757 -0.16744 0.0224 -0.14038 C -0.00295 -0.13113 -0.02778 -0.11841 -0.05364 -0.11032 C -0.08038 -0.10199 -0.10851 -0.1006 -0.13524 -0.09158 C -0.20937 -0.06661 -0.27969 -0.02313 -0.35503 -0.00347 C -0.2868 -0.04625 -0.36094 -0.00093 -0.2184 -0.0747 C -0.13333 -0.11864 -0.04861 -0.16536 0.03524 -0.21346 C 0.07795 -0.23797 0.11927 -0.25023 0.16042 -0.27937 C 0.17361 -0.30134 0.16215 -0.27983 0.14497 -0.27174 C 0.1375 -0.26827 0.12917 -0.2692 0.12118 -0.26804 C 0.04896 -0.21994 -0.02917 -0.19033 -0.10712 -0.16489 C -0.08177 -0.18571 -0.11267 -0.16281 -0.06476 -0.18178 C -0.04097 -0.19149 -0.01753 -0.20305 0.00556 -0.21554 C 0.05139 -0.24052 0.0967 -0.26665 0.14219 -0.29232 C 0.19219 -0.32031 0.16024 -0.31152 0.19583 -0.31869 C 0.2125 -0.33349 0.20156 -0.32285 0.15625 -0.30944 C 0.1125 -0.29602 0.06719 -0.30042 0.0224 -0.2981 C -0.03698 -0.29487 -0.09687 -0.29417 -0.15642 -0.29232 C -0.16892 -0.2914 -0.27951 -0.27822 -0.29305 -0.28677 C -0.28316 -0.29417 -0.18889 -0.36494 -0.18733 -0.36563 C -0.16111 -0.37997 -0.13368 -0.39107 -0.10851 -0.40865 C -0.06458 -0.43941 -0.02309 -0.47618 0.01962 -0.50995 C 0.07639 -0.55481 0.05087 -0.53885 0.09844 -0.58511 C 0.10608 -0.59251 0.11476 -0.59898 0.12257 -0.60569 C 0.1257 -0.6087 0.13611 -0.61355 0.13229 -0.61517 C 0.12483 -0.61818 0.06719 -0.59852 0.06615 -0.59829 C -0.03229 -0.57308 -0.14045 -0.55504 -0.23524 -0.50995 C -0.25347 -0.50116 -0.27187 -0.49214 -0.2901 -0.48381 C -0.31267 -0.47341 -0.33524 -0.46392 -0.35798 -0.45375 C -0.36076 -0.45236 -0.36927 -0.44773 -0.36614 -0.44843 C -0.32864 -0.45282 -0.29062 -0.46647 -0.25347 -0.47433 C -0.19792 -0.48612 -0.14375 -0.48867 -0.08733 -0.49121 C -0.0691 -0.49052 -0.04826 -0.50208 -0.03264 -0.48936 C -0.02413 -0.48266 -0.04705 -0.47202 -0.05521 -0.46508 C -0.11545 -0.41351 -0.11632 -0.40726 -0.18316 -0.37304 C -0.21094 -0.35893 -0.24028 -0.35014 -0.26771 -0.33557 C -0.35399 -0.29047 -0.4368 -0.23427 -0.52118 -0.18363 C -0.52205 -0.18247 -0.5309 -0.17253 -0.51979 -0.17229 C -0.48871 -0.1716 -0.45781 -0.17646 -0.42673 -0.17785 C -0.37743 -0.18016 -0.32812 -0.18178 -0.27899 -0.18363 C -0.22882 -0.19519 -0.17969 -0.21462 -0.12951 -0.22479 C -0.10573 -0.22965 0.02396 -0.23381 0.03646 -0.23427 C 0.04184 -0.23543 0.04705 -0.23636 0.05208 -0.23797 C 0.05538 -0.23913 0.04549 -0.23705 0.04219 -0.23612 C 0.03542 -0.23404 0.02917 -0.22988 0.0224 -0.22849 C 0.01042 -0.22595 -0.00191 -0.22595 -0.01406 -0.22479 C -0.06215 -0.20814 -0.11128 -0.20421 -0.1592 -0.18733 C -0.20417 -0.17137 -0.25052 -0.14847 -0.29305 -0.1235 C -0.10035 -0.07331 0.10052 -0.12905 0.29566 -0.10291 C 0.32795 -0.09852 0.23559 -0.07169 0.20556 -0.05597 C 0.18125 -0.04325 0.15417 -0.04209 0.12952 -0.03168 C 0.08455 -0.01295 0.00174 0.02336 -0.03108 0.07354 C -0.02708 0.08395 -0.02917 0.08302 -0.01684 0.08279 C 0.02952 0.08164 0.07604 0.07909 0.12257 0.07724 C 0.16754 0.07354 0.21267 0.07215 0.25781 0.06591 C 0.27552 0.06337 0.29254 0.0555 0.30972 0.05088 C 0.35122 0.03978 0.39306 0.02983 0.43507 0.02289 C 0.43646 0.0222 0.43646 0.01711 0.43507 0.01711 C 0.31458 0.01711 0.19392 0.01966 0.07327 0.02104 C -0.03472 0.03307 0.01788 0.03168 -0.08455 0.02659 C -0.12014 0.0148 -0.05382 -0.01642 -0.04809 -0.0185 C -0.02396 -0.02752 -0.00052 -0.03839 0.02396 -0.04464 C 0.14618 -0.07539 0.26736 -0.11957 0.39149 -0.12905 C 0.70712 -0.1531 0.53906 -0.13946 0.89583 -0.17044 C 0.9132 -0.17923 0.93611 -0.17761 0.94792 -0.19658 C 0.95608 -0.20976 0.95538 -0.24075 0.94358 -0.24723 C 0.91493 -0.26295 0.88142 -0.24538 0.8507 -0.24538 E">
                                      <p:cBhvr>
                                        <p:cTn id="51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28:18Z</dcterms:created>
  <dc:creator>Mom</dc:creator>
  <dc:description/>
  <dc:language>en-US</dc:language>
  <cp:lastModifiedBy>Taren</cp:lastModifiedBy>
  <dcterms:modified xsi:type="dcterms:W3CDTF">2010-12-20T23:11:41Z</dcterms:modified>
  <cp:revision>19</cp:revision>
  <dc:subject/>
  <dc:title>Russian economy</dc:title>
</cp:coreProperties>
</file>